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2D9-7CDE-4563-B249-A7637544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C071-A9E7-45E2-B53A-5FD75EF88C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DE7D-E8AB-4138-89D9-9932A17640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BF6B-52B2-4CC4-A89B-A72CC70129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A7BE-5980-4187-B19B-C8E162933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73FE-CDCF-4030-851E-9453FDC96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282-2F34-4D51-B267-C8CD8C040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D828-EE38-41B3-AAF2-DCB0F69CDE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9208-60A2-49D1-B8C7-98F3EB9A8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059B-3519-41A3-AB00-6409F9F8C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DFD-C8D5-4FB9-8532-4F754607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5F28-69F9-4F9A-A9F0-E8F5550C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6EE-2012-4F1F-8FE8-48339821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D47-2D2C-4A1B-8065-E1884A39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90F-31D4-406B-99D8-76BCEEFC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E55-9BF1-4A41-A876-750A5953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79C2-157A-4785-8CC4-45DBAB03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CCE3-49DF-4E96-AFF4-F5D3690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BBD7-66C4-41BE-AAAC-AB877AE9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B2E5-007B-4A2E-9D0D-FC6C7D6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C7DE-6A97-42E6-8C6B-97C34411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482-2FC8-43CC-A4E2-B7BBCC63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780-CD10-443B-BA99-03E5FFD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416B-F8E5-4B71-8CAF-3A6CE7C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B33E-B4C7-4CCE-9833-D1C5F1D0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995-FE5E-4F2F-AD98-A92EC2A3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3CA4-3D19-4B0C-9465-DB904FBB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9BE89-1869-4C02-851C-BD67A5C1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08C3-8A98-49BD-BFC0-D87E07B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4CE0-0293-4C70-BC34-7CD428E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9BDB-75C8-4D5F-9192-3E6F1AB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7005-1D6F-4863-B7A8-3014635E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FC8-5F30-4878-9BEC-5657E3C4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3CA6-B9DA-418D-B085-C5D4E94D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F249-B63F-44F0-A2CA-637257B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3D62A-35CE-43BC-8ADC-28CC288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F488-BB65-4A6C-A5C8-5924DA1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7CC7B-2B14-4E3B-8E5F-D0931A7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34CF0-1EC8-4384-89D8-3C1D02EB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5273-A7AF-409C-AF40-BB97758E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0FF4-F6AC-4936-8654-3B550B39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F4A8-6E52-41E2-9FDE-0F06FA1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CE11F-198B-4FB0-A1EF-38356F7D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F64-4478-4A70-BD84-CCCE8F1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BA17-12D8-436D-88AA-8BF070B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18AA-FD29-4089-82E7-FD6ECA4E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9D13-8597-4AB7-8923-E61E459C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4573B-3182-4E2B-9DDB-A16EA45B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6FC5-7FE7-4B95-9161-FF43BB54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9F7D-9268-45EB-8C7E-CBF12BF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D694-F420-4C64-B045-9AD5D8A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42D2-7388-4CEA-A0DD-6BE27BB6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68DCC-0B35-4D06-9110-89F47C83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428E-7E1E-498A-8CF9-9FA19485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9F3-7CF9-42A0-A949-5502C85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2156-7F58-48BF-BFFC-1CFE5CA7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8BCD-18FD-412D-A314-D2864CA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FB728-E290-4CDF-9145-F6502DD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59113-AD8E-4BA5-917A-1763796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A915-5C21-4367-A6F0-5062783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BDE02-BB7F-48C5-894A-F3BE671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7843-6D73-4E07-BDEF-0590B08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CB22-FB71-4C89-8C46-67C51A9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ABDFC-A34F-46D6-A91D-C9F58C86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AD50-9749-4C0E-823A-57C78DC5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EFA-84A0-4B5F-A6EF-AF77379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F4DAE-F30E-4598-B075-38C6DD55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A3E-7AA1-4807-9848-2EDE5066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E60-8F55-43A9-A81C-23014B4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B07-0B36-4EC1-B8DC-98306E1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83CD-06A8-449C-821C-C28094D01829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1692-916F-4323-A4BB-9FA905C6C49C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7597-EC01-40E2-A3AB-DC046EB51A4C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9B5-42E9-4DE4-B0C5-E0234B086ADD}" type="slidenum">
              <a:rPr b="0" lang="en-US" sz="11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1d43"/>
            </a:gs>
            <a:gs pos="100000">
              <a:srgbClr val="92237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E13-75F3-4630-9E69-8058D567BCB5}" type="slidenum">
              <a:rPr b="0" lang="en-US" sz="11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1504800" y="1212840"/>
            <a:ext cx="6658200" cy="161604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3" descr=""/>
          <p:cNvPicPr/>
          <p:nvPr/>
        </p:nvPicPr>
        <p:blipFill>
          <a:blip r:embed="rId2"/>
          <a:stretch/>
        </p:blipFill>
        <p:spPr>
          <a:xfrm>
            <a:off x="2382840" y="2938320"/>
            <a:ext cx="5780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2" descr=""/>
          <p:cNvPicPr/>
          <p:nvPr/>
        </p:nvPicPr>
        <p:blipFill>
          <a:blip r:embed="rId1"/>
          <a:stretch/>
        </p:blipFill>
        <p:spPr>
          <a:xfrm>
            <a:off x="1676520" y="-55440"/>
            <a:ext cx="5864040" cy="1817640"/>
          </a:xfrm>
          <a:prstGeom prst="rect">
            <a:avLst/>
          </a:prstGeom>
          <a:ln w="0">
            <a:noFill/>
          </a:ln>
        </p:spPr>
      </p:pic>
      <p:pic>
        <p:nvPicPr>
          <p:cNvPr id="220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835200" y="268200"/>
            <a:ext cx="8315280" cy="164628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835200" y="1951200"/>
            <a:ext cx="8424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798480" y="268200"/>
            <a:ext cx="8461440" cy="1646280"/>
          </a:xfrm>
          <a:prstGeom prst="rect">
            <a:avLst/>
          </a:prstGeom>
          <a:ln w="0">
            <a:noFill/>
          </a:ln>
        </p:spPr>
      </p:pic>
      <p:pic>
        <p:nvPicPr>
          <p:cNvPr id="224" name="Rectangle 3" descr=""/>
          <p:cNvPicPr/>
          <p:nvPr/>
        </p:nvPicPr>
        <p:blipFill>
          <a:blip r:embed="rId2"/>
          <a:stretch/>
        </p:blipFill>
        <p:spPr>
          <a:xfrm>
            <a:off x="835200" y="1951200"/>
            <a:ext cx="83152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899560" cy="2176560"/>
          </a:xfrm>
          <a:prstGeom prst="rect">
            <a:avLst/>
          </a:prstGeom>
          <a:ln w="0">
            <a:noFill/>
          </a:ln>
        </p:spPr>
      </p:pic>
      <p:pic>
        <p:nvPicPr>
          <p:cNvPr id="226" name="Rectangle 3" descr=""/>
          <p:cNvPicPr/>
          <p:nvPr/>
        </p:nvPicPr>
        <p:blipFill>
          <a:blip r:embed="rId2"/>
          <a:stretch/>
        </p:blipFill>
        <p:spPr>
          <a:xfrm>
            <a:off x="755640" y="1957320"/>
            <a:ext cx="8443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657440" y="268200"/>
            <a:ext cx="5902200" cy="149400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12136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1725480" y="122400"/>
            <a:ext cx="5693040" cy="163980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4180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1725480" y="268200"/>
            <a:ext cx="5693040" cy="1494000"/>
          </a:xfrm>
          <a:prstGeom prst="rect">
            <a:avLst/>
          </a:prstGeom>
          <a:ln w="0">
            <a:noFill/>
          </a:ln>
        </p:spPr>
      </p:pic>
      <p:pic>
        <p:nvPicPr>
          <p:cNvPr id="232" name="Rectangle 3" descr=""/>
          <p:cNvPicPr/>
          <p:nvPr/>
        </p:nvPicPr>
        <p:blipFill>
          <a:blip r:embed="rId2"/>
          <a:stretch/>
        </p:blipFill>
        <p:spPr>
          <a:xfrm>
            <a:off x="1994040" y="1920960"/>
            <a:ext cx="51019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1719360" y="122400"/>
            <a:ext cx="5808600" cy="163980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3" descr=""/>
          <p:cNvPicPr/>
          <p:nvPr/>
        </p:nvPicPr>
        <p:blipFill>
          <a:blip r:embed="rId2"/>
          <a:stretch/>
        </p:blipFill>
        <p:spPr>
          <a:xfrm>
            <a:off x="2054160" y="2023920"/>
            <a:ext cx="50720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02:51Z</dcterms:created>
  <dc:creator>nuhs</dc:creator>
  <dc:description/>
  <dc:language>en-US</dc:language>
  <cp:lastModifiedBy>Ameena</cp:lastModifiedBy>
  <dcterms:modified xsi:type="dcterms:W3CDTF">2008-10-27T21:24:32Z</dcterms:modified>
  <cp:revision>9</cp:revision>
  <dc:subject/>
  <dc:title>Chapter 8 and 14 Review</dc:title>
</cp:coreProperties>
</file>